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cashreg.wav" ContentType="audio/x-wav"/>
  <Override PartName="/ppt/media/image10.gif" ContentType="image/gif"/>
  <Override PartName="/ppt/media/ricochet.wav" ContentType="audio/x-wav"/>
  <Override PartName="/ppt/media/chimes.wav" ContentType="audio/x-wav"/>
  <Override PartName="/ppt/media/image5.gif" ContentType="image/gif"/>
  <Override PartName="/ppt/media/carbrake.wav" ContentType="audio/x-wav"/>
  <Override PartName="/ppt/media/image11.gif" ContentType="image/gif"/>
  <Override PartName="/ppt/media/applause.wav" ContentType="audio/x-wav"/>
  <Override PartName="/ppt/media/image9.gif" ContentType="image/gif"/>
  <Override PartName="/ppt/media/explode.wav" ContentType="audio/x-wav"/>
  <Override PartName="/ppt/media/camera.wav" ContentType="audio/x-wav"/>
  <Override PartName="/ppt/media/image8.gif" ContentType="image/gif"/>
  <Override PartName="/ppt/media/laser.wav" ContentType="audio/x-wav"/>
  <Override PartName="/ppt/media/image1.gif" ContentType="image/gif"/>
  <Override PartName="/ppt/media/image2.gif" ContentType="image/gif"/>
  <Override PartName="/ppt/media/whoosh.wav" ContentType="audio/x-wav"/>
  <Override PartName="/ppt/media/image4.gif" ContentType="image/gif"/>
  <Override PartName="/ppt/media/gunshot.wav" ContentType="audio/x-wav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F10-2B5D-4ECE-943D-C67D19D5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B60-A91E-4891-8DF4-F14DCF2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204-0699-40EC-9CCC-74FAF2D1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02D-03B6-4CB2-8936-54EA57AE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441-93E1-4542-B89B-CA53BAC7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4B7-DF22-4EC2-857C-7716201A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BCC-3E40-4AA0-B92B-1A362F0D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CD0-C372-4DEF-8FF8-F2756E27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C6B-BAFD-46D3-BE43-AD5CAA7F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3C8-9FD4-4061-92E0-A008D57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96E-16B4-42A7-B60E-A678657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15C-4C62-4BF7-9DFC-B2B38BF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7E8-5BDA-40A5-948D-AB1F2A722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3808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ANTONYM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8222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light  dar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e entered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dark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building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ue enjoyed the early morning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Program Files\Microsoft Office\Clipart\homeanim\ag00433_.gif"/>
          <p:cNvPicPr/>
          <p:nvPr/>
        </p:nvPicPr>
        <p:blipFill>
          <a:blip r:embed="rId1"/>
          <a:stretch/>
        </p:blipFill>
        <p:spPr>
          <a:xfrm>
            <a:off x="5181480" y="106668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7698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Name 5 words and their antonyms.  Use each correctly in a sentenc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c:\Program Files\Microsoft Office\Clipart\homeanim\j0076136.gif"/>
          <p:cNvPicPr/>
          <p:nvPr/>
        </p:nvPicPr>
        <p:blipFill>
          <a:blip r:embed="rId1"/>
          <a:stretch/>
        </p:blipFill>
        <p:spPr>
          <a:xfrm>
            <a:off x="1981080" y="32004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9536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fast   slo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bus goe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fas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turtle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low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Program Files\Microsoft Office\Clipart\homeanim\bd13659_.gif"/>
          <p:cNvPicPr/>
          <p:nvPr/>
        </p:nvPicPr>
        <p:blipFill>
          <a:blip r:embed="rId1"/>
          <a:stretch/>
        </p:blipFill>
        <p:spPr>
          <a:xfrm>
            <a:off x="3124080" y="1219320"/>
            <a:ext cx="5486400" cy="21034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arbrak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7295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large  sma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hippopotamus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larg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mouse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mall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Program Files\Microsoft Office\Clipart\homeanim\bd13775_.gif"/>
          <p:cNvPicPr/>
          <p:nvPr/>
        </p:nvPicPr>
        <p:blipFill>
          <a:blip r:embed="rId1"/>
          <a:stretch/>
        </p:blipFill>
        <p:spPr>
          <a:xfrm>
            <a:off x="4572000" y="27432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0"/>
            <a:ext cx="9144000" cy="134298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tall   shor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dinosaur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tall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boy i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hor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:\Program Files\Microsoft Office\Clipart\homeanim\ag00043_.gif"/>
          <p:cNvPicPr/>
          <p:nvPr/>
        </p:nvPicPr>
        <p:blipFill>
          <a:blip r:embed="rId1"/>
          <a:stretch/>
        </p:blipFill>
        <p:spPr>
          <a:xfrm>
            <a:off x="6400800" y="762120"/>
            <a:ext cx="2743200" cy="640080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320" y="0"/>
            <a:ext cx="9524880" cy="839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ample:  noise  sil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tractor’s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nois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hurt our ear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ilenc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was relax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:\Program Files\Microsoft Office\Clipart\WebArt\bd13771_.gif"/>
          <p:cNvPicPr/>
          <p:nvPr/>
        </p:nvPicPr>
        <p:blipFill>
          <a:blip r:embed="rId1"/>
          <a:stretch/>
        </p:blipFill>
        <p:spPr>
          <a:xfrm>
            <a:off x="5562720" y="342900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gunsho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0"/>
            <a:ext cx="9144000" cy="9751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feeble   stro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old dog i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feebl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giant insect i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trong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c:\Program Files\Microsoft Office\Clipart\WebArt\bd13729_.gif"/>
          <p:cNvPicPr/>
          <p:nvPr/>
        </p:nvPicPr>
        <p:blipFill>
          <a:blip r:embed="rId1"/>
          <a:stretch/>
        </p:blipFill>
        <p:spPr>
          <a:xfrm>
            <a:off x="3603600" y="3352680"/>
            <a:ext cx="5540400" cy="38102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ricoche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8222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rich   poo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rich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king gave to the need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poor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ad no hom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c:\Program Files\Microsoft Office\Clipart\homeanim\j0076179.gif"/>
          <p:cNvPicPr/>
          <p:nvPr/>
        </p:nvPicPr>
        <p:blipFill>
          <a:blip r:embed="rId1"/>
          <a:stretch/>
        </p:blipFill>
        <p:spPr>
          <a:xfrm>
            <a:off x="5181480" y="2743200"/>
            <a:ext cx="39625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0"/>
            <a:ext cx="9144000" cy="874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wild   t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wild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bull is ang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ta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bd19579_"/>
          <p:cNvPicPr/>
          <p:nvPr/>
        </p:nvPicPr>
        <p:blipFill>
          <a:blip r:embed="rId1"/>
          <a:stretch/>
        </p:blipFill>
        <p:spPr>
          <a:xfrm rot="10800000">
            <a:off x="9144000" y="8381880"/>
            <a:ext cx="92160" cy="84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ag00044_"/>
          <p:cNvPicPr/>
          <p:nvPr/>
        </p:nvPicPr>
        <p:blipFill>
          <a:blip r:embed="rId2"/>
          <a:stretch/>
        </p:blipFill>
        <p:spPr>
          <a:xfrm>
            <a:off x="3048120" y="28954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1027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xample:  hard   sof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hard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rocks were b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beach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pillow was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c:\Program Files\Microsoft Office\Clipart\WebArt\bd19591_.gif"/>
          <p:cNvPicPr/>
          <p:nvPr/>
        </p:nvPicPr>
        <p:blipFill>
          <a:blip r:embed="rId1"/>
          <a:stretch/>
        </p:blipFill>
        <p:spPr>
          <a:xfrm>
            <a:off x="3733920" y="2666880"/>
            <a:ext cx="5105160" cy="345924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3:15:26Z</dcterms:created>
  <dc:creator>Graves</dc:creator>
  <dc:description/>
  <dc:language>en-US</dc:language>
  <cp:lastModifiedBy>teacher</cp:lastModifiedBy>
  <dcterms:modified xsi:type="dcterms:W3CDTF">2010-11-14T02:29:43Z</dcterms:modified>
  <cp:revision>7</cp:revision>
  <dc:subject/>
  <dc:title>PowerPoint Presentation</dc:title>
</cp:coreProperties>
</file>